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2E1-E920-4759-9ACD-002D083AF7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0BAC-8042-4353-89F2-C92A923DD80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511F-4AFC-4058-97D7-962A2D9CE48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3158-AB2F-41B3-816B-F66E9C8D302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EB8A7-AA63-4C17-BEFF-F79ADA51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87E71-BC29-4734-8805-0D64FED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24979-D6FD-495D-8EF6-C1941188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A0C9F-61DD-4CFE-800B-00B2CDB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4101-7F5E-4775-9A58-6DC7B0F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70593-624D-4FB5-8224-84907852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28484-16E6-4B66-B268-1E28D51A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4E405-B8AC-48B9-87C0-7132C83F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6B802-EC97-4DF5-9762-AB51F862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B9CEB-E6D2-4663-B785-A02F994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D7BF6-50C7-45E5-9A4B-C4FBE798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6DD9F-5BB0-4FAB-9F3F-62427A7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0505-7E46-4127-ACC0-89830E8AA24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53D-F06A-4D4C-92BE-22BD94299F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B9DA-B5FE-4B7E-8EBE-7D7B26B1399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4BB9-89F7-4078-B2A6-FEB9134702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8D5-C5F8-4B54-9311-E20C0122390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 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 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8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00880"/>
            <a:chOff x="0" y="0"/>
            <a:chExt cx="9358200" cy="650088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8480"/>
                <a:chOff x="356760" y="785520"/>
                <a:chExt cx="8644320" cy="304848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16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4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3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15600" cy="2530440"/>
              <a:chOff x="285480" y="3970440"/>
              <a:chExt cx="8715600" cy="253044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12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573040" cy="2503440"/>
                <a:chOff x="356760" y="3970440"/>
                <a:chExt cx="8573040" cy="250344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532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51480"/>
                  <a:ext cx="857304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세부 내용 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0-211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5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17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356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와 문제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6080"/>
              <a:chOff x="142920" y="-71280"/>
              <a:chExt cx="8858160" cy="328608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760"/>
                <a:chOff x="285480" y="500040"/>
                <a:chExt cx="8715600" cy="271476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에 머무는 시간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1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유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여가활동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보다 개인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 및 여가활동 사용시간이 더 많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일 여가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+ 4.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에 소비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 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9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초 가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산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9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여가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6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5.6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4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0.4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이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금씩 증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이나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1:36:30Z</dcterms:modified>
  <cp:revision>3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